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A3F5-B331-4DFF-8EBA-0F1C5F0D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CB865-F073-47DF-889A-663E72BF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A417-36D3-4D77-B618-C85E447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25AD5-F78B-4322-B8AB-BC5F809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FC27-6B9B-46C0-A555-2D7B23A3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E41-45F7-4A2E-86EC-FDD6302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5D93-33F2-4FF6-B1D1-0E6F950D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D048-0C80-42D5-A2FB-46A910E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8FA6-2267-4C4F-98AF-5830CEE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4808-957D-4486-922E-395F7582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D441-EE80-49A0-AD6B-1D01E04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67F5-90DC-4FD7-A4A9-33B081E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D65-0C0E-4403-BB95-5A886B17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ED1E-7BAF-4EB8-8057-AB5C551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DF0D-BEEC-415D-B6B3-CFC42A41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C1FF-6D47-41E6-A447-C65EC77D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5418-8842-44BC-A339-16C87C3A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D574A-7F64-473B-B3CD-D3383BFC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EDCE-E794-4BDE-B0E1-4A40499E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ABC27-B687-4E65-B211-DAEBD7E1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F9ED-BF73-438E-8571-74DB511B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16F9-0CDA-4718-9000-84D8C2F5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CD779-C955-4F5D-8C3F-27DC9C24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E5C4-85B1-4491-A350-2E65F9AF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D8F-ADD3-40A6-B01D-91B3578A7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35D-08B5-4A8A-AE2F-32D1B436A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7dd64"/>
                </a:solidFill>
                <a:latin typeface="Arial"/>
              </a:rPr>
              <a:t>Britney Spears: the histor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Ben Thorn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ma Jean Fo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34 une morte 1966, elle était la mère de James Sp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fille de William et Lexi For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nett O Field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était né en 1919 et mort 1978, il était père de Lynn Brid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était fils de Joel et Aneline Po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llian Wool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24 et mourut 1993, il était père de Lynne Brid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trace de la mère ou le p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P.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é en 1952, il est le père de Britney Jean Sp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le fils de Juin et Emma S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000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nne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é en 1956, elle est la Mère de Britney Jean Spea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lle est la fille de Barnett et Lily B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5906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ney Jean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 Décembre 2 1981, elle est la mère des enfants inconn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le est le fils de James et Lynn Spears et est actuellement sous son père soins en raison de problèmes de dr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9625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ritney Spears "arbre de famille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va G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Fo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xi May Thomp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el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line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s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cune information ou des photos se trou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e Austin Spe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é en 1930 et mourut l'année inconnue et fut le père de James P. Sp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est le fils de Juin et de la Nouvelle Sp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8:14:20Z</dcterms:created>
  <dc:creator>thornerben</dc:creator>
  <dc:description/>
  <dc:language>en-US</dc:language>
  <cp:lastModifiedBy>thornerben</cp:lastModifiedBy>
  <dcterms:modified xsi:type="dcterms:W3CDTF">2011-12-09T15:15:20Z</dcterms:modified>
  <cp:revision>3</cp:revision>
  <dc:subject/>
  <dc:title>Britney Spears: the history</dc:title>
</cp:coreProperties>
</file>